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05B-313C-429C-8A46-3A2D9486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8BE-1C1E-41E1-9414-F38484BD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3BB-2FB2-432B-B5BF-F5594CC4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B24-040F-4219-84E8-547F32C6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FE0A-5A9F-43F8-8979-C6319173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6134-AFC6-4AFB-A3B2-47AFCC80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4D50-18EB-4D33-9DEE-9A23EE33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2F7C-0BAB-4A41-A1FB-8B6B8903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1E3F-0AB1-40A6-B721-1EA3FFA1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32B6-2E6F-4331-8B9E-19AF65AF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0B0B-85F3-43DB-84CB-4BCB1426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FB1-C182-4AD0-9EA0-6CB3B63D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C873-6C00-4938-B22C-668ABB30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5665-E621-402A-89F4-E1F8570D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C03B-94F2-4D01-B677-8F56D75C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5254-7881-4B65-A474-2C8D43B5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815C-9CE1-4424-BB52-5FCD5622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457-AC97-4CD4-84AF-7D851004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2A0-D710-4C86-9C09-F6ADE8BC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5A8C-BE4D-4F5C-9FB7-B6F71982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C5F-9944-452B-91EA-687C64A2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CDA-85C2-4BAC-89E9-C4B6EBD9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7D3-D786-489D-87A6-8609BFB4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404-B215-4F21-8D54-6EFA8474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FBD4-B309-4CDA-83B8-F7F04C911D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EBD4-DB87-412D-B05E-C4120C576D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Comic Sans MS"/>
              </a:rPr>
              <a:t>Obj: to recognise human qualities and gift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Comic Sans MS"/>
              </a:rPr>
              <a:t>Key ques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were some of the good qualities that the fairies gave as gif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 you think the other fairies gave the bab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would you want to give the baby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Talk with your partner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n you think of another story in which the main character possesses or is given special qualities of mind and hear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s there anyone alive today who you think possesses special qualities of mind and heart? Who, and what are the qualit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Comic Sans MS"/>
              </a:rPr>
              <a:t>Myself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 you were younger, you may have heard the story of the Sleeping Beauty or seen the film or carto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03640" y="3645000"/>
            <a:ext cx="3109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Gifts for the ba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ce upon a time, the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s a king and queen 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nged to have a bab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, at last, they had a baby daughter, they thought a good fairy had been looking after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12000" y="620640"/>
            <a:ext cx="2589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’ll invite them all to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ristening,” said the K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d he d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fter the feast, the twelve fairies gathered round the cradle of the baby princess. Each gave the baby a gi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268360" y="4305240"/>
            <a:ext cx="3613320" cy="2552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052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shall have beauty of face,” said the fir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shall have beauty of heart and be gentle and loving,” said the n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shall be wise,” said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  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 gift to you is generosity,” said the next.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e by one, they promised the little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incess all the good qualities that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ould make her loved and lov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9280" y="3591000"/>
            <a:ext cx="46227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Just as the eleventh fairy stepped away from the cradle, a furious shout came from the door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 suppose you thought I was to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ld and useless to invite,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voice shou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eryone looked round to se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very old fairy walking slowly towards the cradle. Everyone had forgott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r and she had not been invi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591240" y="2060640"/>
            <a:ext cx="25527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 the princess is fifteen years old,” she said, “she shall prick her finger on a spindle and fall down dea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e looked around at the stunned guests and hobbled away from the pa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King and Queen were horrifi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 had just forgotten her,” the King said, “Whatever shall we do now?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539120" y="3141720"/>
            <a:ext cx="16048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on’t worry,” said the twelfth fair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 can’t undo the bad spell, but I can protect the princess. She will prick her finger on a spindle, but she will not die. She will just fall asleep for a hundred years. Someone will come to se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free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659640" y="3429000"/>
            <a:ext cx="2484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King and Queen were grateful, but they were taking no chances. They ordered that all spindles in the land were to be destroy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2637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8:17:29Z</dcterms:created>
  <dc:creator>Manager</dc:creator>
  <dc:description/>
  <dc:language>en-US</dc:language>
  <cp:lastModifiedBy>Manager</cp:lastModifiedBy>
  <dcterms:modified xsi:type="dcterms:W3CDTF">2008-08-04T09:34:48Z</dcterms:modified>
  <cp:revision>7</cp:revision>
  <dc:subject/>
  <dc:title>Obj: to recognise human qualities and gifts</dc:title>
</cp:coreProperties>
</file>